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9468D-3F2A-4272-9238-A669073D2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BF348-BEBB-4231-9379-CF39E328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56826-F248-403D-8574-795D3B152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AA895-76EB-46FA-B360-318FFEF80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B2E2-3227-4EB0-ADE7-F6B4A1926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4AB4-AF03-4826-93F6-D5CD39E6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E4782-9CC7-49E6-BCB4-99D0B10A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3CB5-DA9C-4F78-B6C8-568C4F977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6134-2FB4-40E5-A37B-35B4640EC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255C-0233-48D8-B545-428F46F1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F560D-0F31-4FEC-8C39-D687AA6A5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01AD-322D-44FC-BBE5-D98084459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011B-6F79-473C-B437-3EF317B49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tic.commentcamarche.net/en.kioskea.net/faq/images/0-QsJYkMDW-safemode1-s-.pn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1523880"/>
            <a:ext cx="7696080" cy="1570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the process of powering it on an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rting the operating system</a:t>
            </a:r>
            <a:endParaRPr b="0" lang="en-US" sz="2800" spc="-1" strike="noStrike">
              <a:solidFill>
                <a:srgbClr val="000000"/>
              </a:solidFill>
              <a:latin typeface="Calibri"/>
            </a:endParaRPr>
          </a:p>
        </p:txBody>
      </p:sp>
      <p:pic>
        <p:nvPicPr>
          <p:cNvPr id="42" name="Rectangle 3" descr=""/>
          <p:cNvPicPr/>
          <p:nvPr/>
        </p:nvPicPr>
        <p:blipFill>
          <a:blip r:embed="rId1"/>
          <a:stretch/>
        </p:blipFill>
        <p:spPr>
          <a:xfrm>
            <a:off x="291960" y="49320"/>
            <a:ext cx="3530880" cy="1133280"/>
          </a:xfrm>
          <a:prstGeom prst="rect">
            <a:avLst/>
          </a:prstGeom>
          <a:ln w="0">
            <a:noFill/>
          </a:ln>
        </p:spPr>
      </p:pic>
      <p:pic>
        <p:nvPicPr>
          <p:cNvPr id="43" name="Picture 2" descr="See full size image">
            <a:hlinkClick r:id="rId2"/>
          </p:cNvPr>
          <p:cNvPicPr/>
          <p:nvPr/>
        </p:nvPicPr>
        <p:blipFill>
          <a:blip r:embed="rId3"/>
          <a:stretch/>
        </p:blipFill>
        <p:spPr>
          <a:xfrm>
            <a:off x="6202440" y="2422440"/>
            <a:ext cx="2484360" cy="1851120"/>
          </a:xfrm>
          <a:prstGeom prst="rect">
            <a:avLst/>
          </a:prstGeom>
          <a:ln w="0">
            <a:noFill/>
          </a:ln>
        </p:spPr>
      </p:pic>
      <p:pic>
        <p:nvPicPr>
          <p:cNvPr id="44" name="Picture 4" descr="http://static.commentcamarche.net/en.kioskea.net/faq/images/0-hHV2vV6B-win2ksafemode2-s-.png"/>
          <p:cNvPicPr/>
          <p:nvPr/>
        </p:nvPicPr>
        <p:blipFill>
          <a:blip r:embed="rId4"/>
          <a:stretch/>
        </p:blipFill>
        <p:spPr>
          <a:xfrm>
            <a:off x="6172200" y="4448160"/>
            <a:ext cx="2629080" cy="1978200"/>
          </a:xfrm>
          <a:prstGeom prst="rect">
            <a:avLst/>
          </a:prstGeom>
          <a:ln w="0">
            <a:noFill/>
          </a:ln>
        </p:spPr>
      </p:pic>
      <p:sp>
        <p:nvSpPr>
          <p:cNvPr id="45" name="Rectangle 6"/>
          <p:cNvSpPr/>
          <p:nvPr/>
        </p:nvSpPr>
        <p:spPr>
          <a:xfrm>
            <a:off x="304920" y="3124080"/>
            <a:ext cx="5715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d boot is when you turn the computer on from an off position.  A warm boot is when you reset a computer that is already on. </a:t>
            </a:r>
            <a:endParaRPr b="0" lang="en-US" sz="1800" spc="-1" strike="noStrike">
              <a:solidFill>
                <a:srgbClr val="000000"/>
              </a:solidFill>
              <a:latin typeface="Arial"/>
            </a:endParaRPr>
          </a:p>
        </p:txBody>
      </p:sp>
      <p:sp>
        <p:nvSpPr>
          <p:cNvPr id="46" name="Rectangle 7"/>
          <p:cNvSpPr/>
          <p:nvPr/>
        </p:nvSpPr>
        <p:spPr>
          <a:xfrm>
            <a:off x="152280" y="4572000"/>
            <a:ext cx="563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4a7b"/>
                </a:solidFill>
                <a:latin typeface="Airstream"/>
              </a:rPr>
              <a:t>The few minutes that it takes for the computer to boot up are called the “black hole” of the digital age. During that time, there is nothing to do but wait and wait before one can log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5:54:57Z</dcterms:created>
  <dc:creator>RRISD</dc:creator>
  <dc:description/>
  <dc:language>en-US</dc:language>
  <cp:lastModifiedBy>RRISD</cp:lastModifiedBy>
  <dcterms:modified xsi:type="dcterms:W3CDTF">2009-03-12T18:48:55Z</dcterms:modified>
  <cp:revision>33</cp:revision>
  <dc:subject/>
  <dc:title>Short for Picture Element, a pixel is a single point in a graphic image. </dc:title>
</cp:coreProperties>
</file>